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082-4D36-4C36-8276-581D569D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3CB-8B9C-4910-BD93-D4174A1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220-59CD-44B5-A48A-CA31676F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9E1-B5B4-4631-B213-E245E2B7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0FE-E76B-492A-8BD6-FCB521BA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9CA2-B2B9-4DCB-95CA-89E0AD3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43D3-687E-420B-B135-BB36D76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15E6-0577-4FDF-876F-7C9B247B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C4E3-1245-453C-8960-421EB84C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F74-7440-410F-891C-E3633F37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CC7-89C8-4B23-959E-D35AAB0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A4C-B368-49D1-A8B8-4FA0ED82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FE9E-9089-4B8A-A4B1-21579D5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50D-D59A-429A-8569-BE17E69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3FCF-E670-4C76-8840-672C96B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E343-B4F4-49D9-ACC4-36D7BAA3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C341-0DA9-4F05-ACD8-543C3DE0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FB6A-37BB-4944-8BF5-A0B158CF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2582-1E28-414C-A112-AF9627A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3AF0-CF9C-4935-ADA5-E4B4FD50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A2CC-BF00-43EB-8BFF-3B72C2F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57DD-F0E9-4B78-B1D2-189FE27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F7B-FB12-4632-8D5A-6C95FDD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02FE-77F9-479B-9774-DB6FCE1D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6589-11D9-4AA0-8A8D-1200F64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351C-8796-482A-B8B8-018B592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9970-C913-47F6-9EBB-A2F9D25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8C0F-040A-4F96-9F2E-89EA626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858A-3BB2-4ABA-B1D2-5162D938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4102-319D-41E5-946D-CA63DC84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8C1C-99BA-4B46-87E1-4A58D6C8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3D49-E132-4963-AC1E-B6543C9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C1FD-D1E1-4E3A-8705-5FCF6EA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539-CDB9-41D2-94E2-B5215E4E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10D1-1470-4BC1-8216-D8F1D98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3D69-F77D-4017-AA73-04570B73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5C86-86BF-48E4-9347-36BFFEAE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A7F2-FCBA-4934-A11F-FD23D25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1013-3C94-43A6-B2E2-FFB1AAA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4ADB-B0DA-40CE-8A7A-0E53E9A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4A2C-8757-4E5F-A176-CA5CB35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0513-205B-4B54-B667-5DE46473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DD64-5369-46E2-B473-539C0C6F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A20C-4438-49B7-91A0-0E22664B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9B6-3B86-4390-B99D-8131D4E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5667-01D9-4097-A5A1-EEA320F6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76E2-FB60-486E-9C59-C72DBC8C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1DDF-7E58-4E70-94D4-7FD723A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180A-CB9D-43D7-9DA4-45987FB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A597-A93E-455A-BB23-ED8A78E6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BAEB-F834-4C5F-84FA-B71C3AA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DA0F-65A0-4C47-B62C-A91F122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8035-2FBE-4387-8EDD-01D49407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7082-9550-464E-BE90-45172FA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7648-20E4-49A6-94DC-4A242595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F6E-405B-47A4-B292-5C6F546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4ED8-FEA4-433B-B723-ABDC15CA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BD0-E2E3-4AEC-A612-8FF44F6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B39-5000-4640-9342-FBA14A5D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B4D-9B5E-4F6A-BEA2-D725765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DEF-D3B1-465C-A9EF-EF2F8CCAB2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4E5-BBE9-4068-9406-3DD220309B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BC0-2144-4DE4-AF2F-BD055A43B2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65e9c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0BC9-C620-4C49-A694-268A098253DE}" type="slidenum">
              <a:rPr b="0" lang="en-US" sz="16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71685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spcBef>
                <a:spcPts val="799"/>
              </a:spcBef>
              <a:buClr>
                <a:srgbClr val="aa2b1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D51E-0F70-4A6C-8016-2DA4E0C929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Tunga"/>
              </a:rPr>
              <a:t>ENTERTAINMENT MARKETING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isure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ree time for work or duties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reak ev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Have costs and expenses equal the income revenue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oday it costs about $90 million to produce a major film and about $40 million to market i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When a film proposal looks favorable, it is greenlighted, or given approval for production by the studio management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ligopo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240" y="1099800"/>
            <a:ext cx="75218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udios including Universal, Paramount, Disney, MGM, and a few others are the core of the film industry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usiness situation in which a few firms affect but do not control an industry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owever there are independent movie companies, indies, that are not affiliated with major studios but still produce film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lair Witch Project was made for $35,000…how much did it make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me Park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rst amusement park was called “Pleasure Gardens” in Europe around 1550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 1583 the world’s oldest amusement park, Bakken, opened near Copenhagen, Denmark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isneyland was created in the 1950’s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st to create a ride can be $50 million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ffili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2240" y="1099800"/>
            <a:ext cx="752184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 independent broadcaster that contracts with larger national networks for programming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38080" y="2160720"/>
            <a:ext cx="7521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ting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838080" y="2895480"/>
            <a:ext cx="75218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rankings of a TV-show or radio-show popularity in certain time period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sic Industry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 record company is called a label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 the early 1980’s MTV appeared and revolutionized the music business with music videos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he music industry has lost money as a result of illegal file sharing and downloading of music for free off the Internet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Napster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forming Ar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rom major productions on Broadway – the theatre district in NYC – plays in local venues, theater is a popular entertainment provider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968400" y="2046240"/>
            <a:ext cx="752148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cademy Award – Film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olden Globe – Film &amp; TV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mmy – TV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rammy – Music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ony – Theater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MARKETING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process of developing, promoting, and distributing products, or goods and services, to satisfy customers’ needs and wants through entertainment, or any diversion, amusement or method of occupying times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9" name="Picture 2" descr="http://upload.wikimedia.org/wikipedia/commons/thumb/0/01/Retiarius_stabs_secutor_(color).jpg/220px-Retiarius_stabs_secutor_(color).jpg"/>
          <p:cNvPicPr/>
          <p:nvPr/>
        </p:nvPicPr>
        <p:blipFill>
          <a:blip r:embed="rId1"/>
          <a:stretch/>
        </p:blipFill>
        <p:spPr>
          <a:xfrm>
            <a:off x="380880" y="2819520"/>
            <a:ext cx="2095560" cy="2000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c/Title_page_William_Shakespeare's_First_Folio_1623.jpg/220px-Title_page_William_Shakespeare's_First_Folio_1623.jpg"/>
          <p:cNvPicPr/>
          <p:nvPr/>
        </p:nvPicPr>
        <p:blipFill>
          <a:blip r:embed="rId2"/>
          <a:stretch/>
        </p:blipFill>
        <p:spPr>
          <a:xfrm>
            <a:off x="3809880" y="2716200"/>
            <a:ext cx="1371600" cy="218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upload.wikimedia.org/wikipedia/en/thumb/3/3e/CatsMusicalLogo.jpg/215px-CatsMusicalLogo.jpg"/>
          <p:cNvPicPr/>
          <p:nvPr/>
        </p:nvPicPr>
        <p:blipFill>
          <a:blip r:embed="rId3"/>
          <a:stretch/>
        </p:blipFill>
        <p:spPr>
          <a:xfrm>
            <a:off x="6400800" y="273996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MUCH T.V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n average people spend almost 3 hours a day watching television.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98% of all homes have at least 1 T.V. set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4" name="Picture 2" descr="http://www.smartgirl.org/writing/forum/images/television.jpg"/>
          <p:cNvPicPr/>
          <p:nvPr/>
        </p:nvPicPr>
        <p:blipFill>
          <a:blip r:embed="rId1"/>
          <a:stretch/>
        </p:blipFill>
        <p:spPr>
          <a:xfrm>
            <a:off x="838080" y="2590920"/>
            <a:ext cx="2590920" cy="23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1.bp.blogspot.com/-inAvS2ZZSQE/UBE8EU3aknI/AAAAAAAAACY/VY2JhmWMsYw/s1600/lcd_television.jpg"/>
          <p:cNvPicPr/>
          <p:nvPr/>
        </p:nvPicPr>
        <p:blipFill>
          <a:blip r:embed="rId2"/>
          <a:stretch/>
        </p:blipFill>
        <p:spPr>
          <a:xfrm>
            <a:off x="5257800" y="2579760"/>
            <a:ext cx="33526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INDUST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099800"/>
            <a:ext cx="752184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nked in terms of time spent using the form of entertainment: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Television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dio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corded music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Newspaper and magazines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Video games (home or arcade)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lms (theatrical or home)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8" name="Picture 2" descr="http://www.marklafay.com/blog/wp-content/uploads/2011/01/Radio.jpg"/>
          <p:cNvPicPr/>
          <p:nvPr/>
        </p:nvPicPr>
        <p:blipFill>
          <a:blip r:embed="rId1"/>
          <a:stretch/>
        </p:blipFill>
        <p:spPr>
          <a:xfrm>
            <a:off x="6172200" y="2057400"/>
            <a:ext cx="2631960" cy="2351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hcpl.net/sites/default/files/magazine_2.jpg"/>
          <p:cNvPicPr/>
          <p:nvPr/>
        </p:nvPicPr>
        <p:blipFill>
          <a:blip r:embed="rId2"/>
          <a:stretch/>
        </p:blipFill>
        <p:spPr>
          <a:xfrm>
            <a:off x="2057400" y="3581280"/>
            <a:ext cx="37339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099800"/>
            <a:ext cx="7521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methods used for communication or transmitting messages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edia include film, television, radio publishing media, the internet, and mor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companies that control the media and media offerings are large businesses such as Disney, Sony, Universal, and NBC and other television networks.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2" name="Picture 2" descr="http://static.tumblr.com/qzjgaoc/afKliwh77/disney.jpg"/>
          <p:cNvPicPr/>
          <p:nvPr/>
        </p:nvPicPr>
        <p:blipFill>
          <a:blip r:embed="rId1"/>
          <a:stretch/>
        </p:blipFill>
        <p:spPr>
          <a:xfrm>
            <a:off x="5715000" y="3276720"/>
            <a:ext cx="1523880" cy="1807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www.bigandroidbbq.com/wp-content/uploads/2012/10/sony_logo.jpg?9d7bd4"/>
          <p:cNvPicPr/>
          <p:nvPr/>
        </p:nvPicPr>
        <p:blipFill>
          <a:blip r:embed="rId2"/>
          <a:stretch/>
        </p:blipFill>
        <p:spPr>
          <a:xfrm>
            <a:off x="1905120" y="3429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hort term popular trend, style, product, or service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6" name="Picture 2" descr="http://iws.iwswebsites.com/wp-content/uploads/2009/09/abc_fads_090508_mn.jpg"/>
          <p:cNvPicPr/>
          <p:nvPr/>
        </p:nvPicPr>
        <p:blipFill>
          <a:blip r:embed="rId1"/>
          <a:stretch/>
        </p:blipFill>
        <p:spPr>
          <a:xfrm>
            <a:off x="3276720" y="2092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ARKETING CONCEP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760" y="12952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vie and tv studios are constantly striving to anticipate customer wants and needs – which is the function of the marketing concept – and provide what the public want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he challenge for studios, theme park owner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d performers is to keep the custom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ing back for mor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9" name="Picture 2" descr="http://upload.wikimedia.org/wikipedia/en/thumb/1/1d/Rct-box.jpg/256px-Rct-box.jpg"/>
          <p:cNvPicPr/>
          <p:nvPr/>
        </p:nvPicPr>
        <p:blipFill>
          <a:blip r:embed="rId1"/>
          <a:stretch/>
        </p:blipFill>
        <p:spPr>
          <a:xfrm>
            <a:off x="6781680" y="2535120"/>
            <a:ext cx="1741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tertainment and Consumer  Spending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tertainment marketing relies on meeting consumer demand for diversion and excitement at a price the customer is willing to pay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ross Sell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method of selling the customer additional related products tied to one nam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01:10Z</dcterms:created>
  <dc:creator>Windows User</dc:creator>
  <dc:description/>
  <dc:language>en-US</dc:language>
  <cp:lastModifiedBy>Windows User</cp:lastModifiedBy>
  <dcterms:modified xsi:type="dcterms:W3CDTF">2012-12-12T13:07:39Z</dcterms:modified>
  <cp:revision>12</cp:revision>
  <dc:subject/>
  <dc:title>Chapter 7</dc:title>
</cp:coreProperties>
</file>